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9.wmf" ContentType="image/x-wmf"/>
  <Override PartName="/ppt/media/image14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286D-5FE5-4701-AA03-F886070FF3D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c0c0c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rebuchet MS"/>
              </a:rPr>
              <a:t>* será usado para o decurso de praz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439AD0-CA16-4F6D-BB2F-B70345398A57}" type="slidenum">
              <a:rPr b="0" lang="pt-BR" sz="1200" spc="-1" strike="noStrike">
                <a:solidFill>
                  <a:srgbClr val="0c0c0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9B0012-FC10-4132-9939-AE27B77737E3}" type="slidenum">
              <a:rPr b="0" lang="pt-BR" sz="1200" spc="-1" strike="noStrike">
                <a:solidFill>
                  <a:srgbClr val="0c0c0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B0D53F-28D7-4719-9E3E-50F68158EAFE}" type="slidenum">
              <a:rPr b="0" lang="pt-BR" sz="1200" spc="-1" strike="noStrike">
                <a:solidFill>
                  <a:srgbClr val="0c0c0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-1215720"/>
            <a:ext cx="822924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-550080"/>
            <a:ext cx="822924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-1215720"/>
            <a:ext cx="822924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-550080"/>
            <a:ext cx="822924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-550080"/>
            <a:ext cx="822924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-1215720"/>
            <a:ext cx="822924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-550080"/>
            <a:ext cx="822924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-1215720"/>
            <a:ext cx="822924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-550080"/>
            <a:ext cx="822924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-1215720"/>
            <a:ext cx="822924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-1215720"/>
            <a:ext cx="822924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-550080"/>
            <a:ext cx="822924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-1215720"/>
            <a:ext cx="822924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-550080"/>
            <a:ext cx="822924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-1215720"/>
            <a:ext cx="822924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-550080"/>
            <a:ext cx="822924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-1215720"/>
            <a:ext cx="822924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-550080"/>
            <a:ext cx="822924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2" descr="S:\MKT\ÚTEIS\TEMPLATES 2016\01_ilustra\jpgs\PPT_1_2016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S:\MKT\ÚTEIS\TEMPLATES 2016\01_ilustra\jpgs\PPT_1_2016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S:\MKT\ÚTEIS\TEMPLATES 2016\01_ilustra\jpgs\PPT_1_2016-0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S:\MKT\ÚTEIS\TEMPLATES 2016\01_ilustra\jpgs\PPT_1_2016-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S:\MKT\ÚTEIS\TEMPLATES 2016\01_ilustra\jpgs\PPT_1_2016-0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S:\MKT\ÚTEIS\TEMPLATES 2016\01_ilustra\jpgs\PPT_1_2016-0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S:\MKT\ÚTEIS\TEMPLATES 2016\01_ilustra\jpgs\PPT_1_2016-0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S:\MKT\ÚTEIS\TEMPLATES 2016\01_ilustra\jpgs\PPT_1_2016-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c0c0c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103695480">
              <a:spcBef>
                <a:spcPts val="799"/>
              </a:spcBef>
              <a:buClr>
                <a:srgbClr val="0c0c0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c0c0c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  <a:p>
            <a:pPr lvl="1" marL="741240" indent="-285480">
              <a:spcBef>
                <a:spcPts val="700"/>
              </a:spcBef>
              <a:buClr>
                <a:srgbClr val="0c0c0c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c0c0c"/>
              </a:solidFill>
              <a:latin typeface="Trebuchet MS"/>
            </a:endParaRPr>
          </a:p>
          <a:p>
            <a:pPr lvl="2" marL="1141560" indent="-228600">
              <a:spcBef>
                <a:spcPts val="601"/>
              </a:spcBef>
              <a:buClr>
                <a:srgbClr val="0c0c0c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c0c0c"/>
              </a:solidFill>
              <a:latin typeface="Trebuchet MS"/>
            </a:endParaRPr>
          </a:p>
          <a:p>
            <a:pPr lvl="3" marL="159876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Trebuchet MS"/>
            </a:endParaRPr>
          </a:p>
          <a:p>
            <a:pPr lvl="4" marL="205596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Trebuchet MS"/>
            </a:endParaRPr>
          </a:p>
          <a:p>
            <a:pPr lvl="5" marL="205596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Trebuchet MS"/>
            </a:endParaRPr>
          </a:p>
          <a:p>
            <a:pPr lvl="6" marL="205596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2781360"/>
            <a:ext cx="914400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pt-BR" sz="4400" spc="-1" strike="noStrike">
                <a:solidFill>
                  <a:srgbClr val="03545d"/>
                </a:solidFill>
                <a:latin typeface="Trebuchet MS"/>
              </a:rPr>
              <a:t>Manual de Intercâmbio Nacional em consonância a RN 395/2016 </a:t>
            </a: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1"/>
          <a:stretch/>
        </p:blipFill>
        <p:spPr>
          <a:xfrm>
            <a:off x="6875640" y="5826240"/>
            <a:ext cx="19684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35e53"/>
                </a:solidFill>
                <a:latin typeface="Trebuchet MS"/>
              </a:rPr>
              <a:t>Aba Cobertos com Autorização</a:t>
            </a: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4949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601"/>
              </a:spcBef>
              <a:buClr>
                <a:srgbClr val="4949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94949"/>
                </a:solidFill>
                <a:latin typeface="Trebuchet MS"/>
              </a:rPr>
              <a:t>Os procedimentos de Análises Clínicas e que constam da </a:t>
            </a:r>
            <a:r>
              <a:rPr b="0" i="1" lang="pt-BR" sz="2400" spc="-1" strike="noStrike" u="sng">
                <a:solidFill>
                  <a:srgbClr val="494949"/>
                </a:solidFill>
                <a:uFillTx/>
                <a:latin typeface="Trebuchet MS"/>
              </a:rPr>
              <a:t>aba Cobertos com Autorização</a:t>
            </a:r>
            <a:r>
              <a:rPr b="0" lang="pt-BR" sz="2400" spc="-1" strike="noStrike">
                <a:solidFill>
                  <a:srgbClr val="494949"/>
                </a:solidFill>
                <a:latin typeface="Trebuchet MS"/>
              </a:rPr>
              <a:t> foram alocados no Rol com prazo de 2 dias para resposta da Unimed Origem, para permitir negociação entre as partes. </a:t>
            </a:r>
            <a:endParaRPr b="0" lang="en-US" sz="24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799"/>
              </a:spcBef>
              <a:buClr>
                <a:srgbClr val="4949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94949"/>
                </a:solidFill>
                <a:latin typeface="Trebuchet MS"/>
              </a:rPr>
              <a:t> </a:t>
            </a:r>
            <a:r>
              <a:rPr b="0" lang="pt-BR" sz="2400" spc="-1" strike="noStrike">
                <a:solidFill>
                  <a:srgbClr val="494949"/>
                </a:solidFill>
                <a:latin typeface="Trebuchet MS"/>
              </a:rPr>
              <a:t>Os outros procedimentos de SADT desta aba foram alocados na tabela com prazo de 3 dias de resposta da Unimed Origem</a:t>
            </a:r>
            <a:r>
              <a:rPr b="0" lang="pt-BR" sz="3200" spc="-1" strike="noStrike">
                <a:solidFill>
                  <a:srgbClr val="494949"/>
                </a:solidFill>
                <a:latin typeface="Trebuchet MS"/>
              </a:rPr>
              <a:t>. </a:t>
            </a: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rebuchet MS"/>
              </a:rPr>
              <a:t>Procedimentos de alta complexidade - PAC</a:t>
            </a:r>
            <a:endParaRPr b="0" lang="en-US" sz="36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94949"/>
                </a:solidFill>
                <a:latin typeface="Trebuchet MS"/>
              </a:rPr>
              <a:t>Prazo total= 10 dias</a:t>
            </a:r>
            <a:endParaRPr b="0" lang="en-US" sz="2400" spc="-1" strike="noStrike">
              <a:solidFill>
                <a:srgbClr val="0c0c0c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4949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94949"/>
                </a:solidFill>
                <a:latin typeface="Trebuchet MS"/>
              </a:rPr>
              <a:t> </a:t>
            </a:r>
            <a:r>
              <a:rPr b="0" lang="pt-BR" sz="2400" spc="-1" strike="noStrike">
                <a:solidFill>
                  <a:srgbClr val="494949"/>
                </a:solidFill>
                <a:latin typeface="Trebuchet MS"/>
              </a:rPr>
              <a:t>Os procedimentos classificados como PAC, mas alocados no Baixo Risco, foram mantidos no Baixo Risco.</a:t>
            </a:r>
            <a:endParaRPr b="0" lang="en-US" sz="2400" spc="-1" strike="noStrike">
              <a:solidFill>
                <a:srgbClr val="0c0c0c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4949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94949"/>
                </a:solidFill>
                <a:latin typeface="Trebuchet MS"/>
              </a:rPr>
              <a:t>Os procedimentos classificados como PAC, exceto os citados acima, foram alocados na tabela com prazo de 6 dias de resposta da Unimed Origem.</a:t>
            </a:r>
            <a:endParaRPr b="0" lang="en-US" sz="24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rebuchet MS"/>
              </a:rPr>
              <a:t>Outras regras alteradas no MIN</a:t>
            </a:r>
            <a:endParaRPr b="0" lang="en-US" sz="36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494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94949"/>
                </a:solidFill>
                <a:latin typeface="Trebuchet MS"/>
              </a:rPr>
              <a:t>Regras do Manual de Intercâmbio Nacional vigente - versão 8.1: </a:t>
            </a:r>
            <a:endParaRPr b="0" lang="en-US" sz="16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94949"/>
                </a:solidFill>
                <a:latin typeface="Trebuchet MS"/>
              </a:rPr>
              <a:t>      </a:t>
            </a:r>
            <a:r>
              <a:rPr b="0" lang="pt-BR" sz="1400" spc="-1" strike="noStrike">
                <a:solidFill>
                  <a:srgbClr val="494949"/>
                </a:solidFill>
                <a:latin typeface="Trebuchet MS"/>
              </a:rPr>
              <a:t>8. A documentação complementar prevista e aprovada para os procedimentos estabelecidos pelo Colégio Nacional de Auditores Médicos deverá ser direcionada obrigatoriamente no ato da solicitação pela Unimed Executora via CHAT de Intercâmbio.</a:t>
            </a:r>
            <a:endParaRPr b="0" lang="en-US" sz="14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b050"/>
                </a:solidFill>
                <a:latin typeface="Trebuchet MS"/>
              </a:rPr>
              <a:t>Alteração para próxima versão 8.2:</a:t>
            </a:r>
            <a:endParaRPr b="0" lang="en-US" sz="16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94949"/>
                </a:solidFill>
                <a:latin typeface="Trebuchet MS"/>
              </a:rPr>
              <a:t>	</a:t>
            </a:r>
            <a:r>
              <a:rPr b="0" lang="pt-BR" sz="1400" spc="-1" strike="noStrike">
                <a:solidFill>
                  <a:srgbClr val="494949"/>
                </a:solidFill>
                <a:latin typeface="Trebuchet MS"/>
              </a:rPr>
              <a:t>O item 8 será mantido e </a:t>
            </a:r>
            <a:r>
              <a:rPr b="1" lang="pt-BR" sz="1600" spc="-1" strike="noStrike">
                <a:solidFill>
                  <a:srgbClr val="494949"/>
                </a:solidFill>
                <a:latin typeface="Trebuchet MS"/>
              </a:rPr>
              <a:t>obrigatório o envio no ato da solicitação.</a:t>
            </a:r>
            <a:endParaRPr b="0" lang="en-US" sz="16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400"/>
              </a:spcBef>
              <a:buClr>
                <a:srgbClr val="494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94949"/>
                </a:solidFill>
                <a:latin typeface="Trebuchet MS"/>
              </a:rPr>
              <a:t>Regras do Manual de Intercâmbio Nacional vigente - versão 8.1: </a:t>
            </a:r>
            <a:endParaRPr b="0" lang="en-US" sz="16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94949"/>
                </a:solidFill>
                <a:latin typeface="Trebuchet MS"/>
              </a:rPr>
              <a:t>	</a:t>
            </a:r>
            <a:r>
              <a:rPr b="0" lang="pt-BR" sz="1400" spc="-1" strike="noStrike">
                <a:solidFill>
                  <a:srgbClr val="494949"/>
                </a:solidFill>
                <a:latin typeface="Trebuchet MS"/>
              </a:rPr>
              <a:t>14. A Unimed Origem terá o prazo máximo de até 12 (doze) horas úteis para analisar e questionar, de uma única vez, as informações fornecidas pela Unimed Executora, e esta deverá enviar a documentação solicitada, no prazo máximo de até 2 (dois) dias úteis da requisição. Neste caso, a transação deverá permanecer “em estudo”.</a:t>
            </a:r>
            <a:endParaRPr b="0" lang="en-US" sz="14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b050"/>
                </a:solidFill>
                <a:latin typeface="Trebuchet MS"/>
              </a:rPr>
              <a:t> </a:t>
            </a:r>
            <a:r>
              <a:rPr b="1" lang="pt-BR" sz="1600" spc="-1" strike="noStrike">
                <a:solidFill>
                  <a:srgbClr val="00b050"/>
                </a:solidFill>
                <a:latin typeface="Trebuchet MS"/>
              </a:rPr>
              <a:t>Alteração para próxima versão 8.2:</a:t>
            </a:r>
            <a:endParaRPr b="0" lang="en-US" sz="16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94949"/>
                </a:solidFill>
                <a:latin typeface="Trebuchet MS"/>
              </a:rPr>
              <a:t>	</a:t>
            </a:r>
            <a:r>
              <a:rPr b="0" lang="pt-BR" sz="1400" spc="-1" strike="noStrike">
                <a:solidFill>
                  <a:srgbClr val="494949"/>
                </a:solidFill>
                <a:latin typeface="Trebuchet MS"/>
              </a:rPr>
              <a:t>14. A Unimed Origem terá o prazo máximo de até 12 (doze) horas úteis para analisar e questionar, de uma única vez, as informações fornecidas pela Unimed Executora, </a:t>
            </a:r>
            <a:r>
              <a:rPr b="1" lang="pt-BR" sz="1400" spc="-1" strike="noStrike">
                <a:solidFill>
                  <a:srgbClr val="494949"/>
                </a:solidFill>
                <a:latin typeface="Trebuchet MS"/>
              </a:rPr>
              <a:t>e esta deverá responder à solicitação, no prazo máximo de até 1 (um) dia útil da requisição</a:t>
            </a:r>
            <a:r>
              <a:rPr b="0" lang="pt-BR" sz="1400" spc="-1" strike="noStrike">
                <a:solidFill>
                  <a:srgbClr val="494949"/>
                </a:solidFill>
                <a:latin typeface="Trebuchet MS"/>
              </a:rPr>
              <a:t>. Neste caso, a transação deverá permanecer “em estudo”. É vetado a solicitação de qualquer outro documento, além dos previstos na lista de racionalização de intercâmbio do Colégio Nacional de Auditores (CNA).</a:t>
            </a:r>
            <a:endParaRPr b="0" lang="en-US" sz="14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rebuchet MS"/>
              </a:rPr>
              <a:t>Envio de documentação</a:t>
            </a:r>
            <a:endParaRPr b="0" lang="en-US" sz="36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494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94949"/>
                </a:solidFill>
                <a:latin typeface="Trebuchet MS"/>
              </a:rPr>
              <a:t>Regras do Manual de Intercâmbio Nacional vigente 8.1: </a:t>
            </a:r>
            <a:endParaRPr b="0" lang="en-US" sz="14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94949"/>
                </a:solidFill>
                <a:latin typeface="Trebuchet MS"/>
              </a:rPr>
              <a:t>	</a:t>
            </a:r>
            <a:r>
              <a:rPr b="0" lang="pt-BR" sz="1400" spc="-1" strike="noStrike">
                <a:solidFill>
                  <a:srgbClr val="494949"/>
                </a:solidFill>
                <a:latin typeface="Trebuchet MS"/>
              </a:rPr>
              <a:t>20. autorização do beneficiário contratante na modalidade de Custo Operacional a Unimed Origem deverá informar o </a:t>
            </a:r>
            <a:r>
              <a:rPr b="0" i="1" lang="pt-BR" sz="1400" spc="-1" strike="noStrike">
                <a:solidFill>
                  <a:srgbClr val="494949"/>
                </a:solidFill>
                <a:latin typeface="Trebuchet MS"/>
              </a:rPr>
              <a:t>status “Pendente para Autorização </a:t>
            </a:r>
            <a:r>
              <a:rPr b="0" lang="pt-BR" sz="1400" spc="-1" strike="noStrike">
                <a:solidFill>
                  <a:srgbClr val="494949"/>
                </a:solidFill>
                <a:latin typeface="Trebuchet MS"/>
              </a:rPr>
              <a:t>da Empresa”. A solicitação não concluída no prazo total de até 5 (cinco) dias uteis poderá ser “autorizada” por decurso de prazo pela Unimed Executora.</a:t>
            </a:r>
            <a:endParaRPr b="0" lang="en-US" sz="14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94949"/>
                </a:solidFill>
                <a:latin typeface="Trebuchet MS"/>
              </a:rPr>
              <a:t>	</a:t>
            </a:r>
            <a:r>
              <a:rPr b="0" lang="pt-BR" sz="1400" spc="-1" strike="noStrike">
                <a:solidFill>
                  <a:srgbClr val="494949"/>
                </a:solidFill>
                <a:latin typeface="Trebuchet MS"/>
              </a:rPr>
              <a:t>20.1. No entanto, caso não seja informado que a contratante é uma empresa de custo Operacional, no prazo total de até 2 (dois) dias úteis, a transação poderá ser “autorizada” por decurso de prazo pela Unimed Executora</a:t>
            </a:r>
            <a:endParaRPr b="0" lang="en-US" sz="14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b050"/>
                </a:solidFill>
                <a:latin typeface="Trebuchet MS"/>
              </a:rPr>
              <a:t>Alteração para próxima versão 8.2:</a:t>
            </a:r>
            <a:endParaRPr b="0" lang="en-US" sz="14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94949"/>
                </a:solidFill>
                <a:latin typeface="Trebuchet MS"/>
              </a:rPr>
              <a:t>	</a:t>
            </a:r>
            <a:r>
              <a:rPr b="0" lang="pt-BR" sz="1400" spc="-1" strike="noStrike">
                <a:solidFill>
                  <a:srgbClr val="494949"/>
                </a:solidFill>
                <a:latin typeface="Trebuchet MS"/>
              </a:rPr>
              <a:t>20. </a:t>
            </a:r>
            <a:r>
              <a:rPr b="1" lang="pt-BR" sz="1400" spc="-1" strike="noStrike">
                <a:solidFill>
                  <a:srgbClr val="494949"/>
                </a:solidFill>
                <a:latin typeface="Trebuchet MS"/>
              </a:rPr>
              <a:t>Os prazos do processo de autorização das empresas em custo operacional são de responsabilidade da Unimed contratada e não se sobrepõem aos estabelecidos neste manual.</a:t>
            </a:r>
            <a:endParaRPr b="0" lang="en-US" sz="14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94949"/>
                </a:solidFill>
                <a:latin typeface="Trebuchet MS"/>
              </a:rPr>
              <a:t>	</a:t>
            </a:r>
            <a:r>
              <a:rPr b="1" lang="pt-BR" sz="1400" spc="-1" strike="noStrike">
                <a:solidFill>
                  <a:srgbClr val="494949"/>
                </a:solidFill>
                <a:latin typeface="Trebuchet MS"/>
              </a:rPr>
              <a:t>Excluído subitem 20.1 </a:t>
            </a:r>
            <a:endParaRPr b="0" lang="en-US" sz="14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677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d35b"/>
                </a:solidFill>
                <a:latin typeface="Trebuchet MS"/>
              </a:rPr>
              <a:t>Boletim Mais Informações</a:t>
            </a: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181560" cy="1962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1273320" y="3357720"/>
            <a:ext cx="6251400" cy="3500280"/>
          </a:xfrm>
          <a:prstGeom prst="rect">
            <a:avLst/>
          </a:prstGeom>
          <a:ln w="0">
            <a:noFill/>
          </a:ln>
        </p:spPr>
      </p:pic>
      <p:sp>
        <p:nvSpPr>
          <p:cNvPr id="384" name="Retângulo 6"/>
          <p:cNvSpPr/>
          <p:nvPr/>
        </p:nvSpPr>
        <p:spPr>
          <a:xfrm>
            <a:off x="1403280" y="4869000"/>
            <a:ext cx="5905440" cy="72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2637000"/>
            <a:ext cx="822960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4400" spc="-1" strike="noStrike">
                <a:solidFill>
                  <a:srgbClr val="fff2ce"/>
                </a:solidFill>
                <a:latin typeface="Trebuchet MS"/>
              </a:rPr>
              <a:t>Modelo de Tabela para o Rol Unimed</a:t>
            </a:r>
            <a:br>
              <a:rPr sz="4400"/>
            </a:b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0"/>
          <a:ext cx="9144000" cy="6886440"/>
        </p:xfrm>
        <a:graphic>
          <a:graphicData uri="http://schemas.openxmlformats.org/drawingml/2006/table">
            <a:tbl>
              <a:tblPr/>
              <a:tblGrid>
                <a:gridCol w="1050840"/>
                <a:gridCol w="1576440"/>
                <a:gridCol w="1447920"/>
                <a:gridCol w="815760"/>
                <a:gridCol w="701640"/>
                <a:gridCol w="831960"/>
                <a:gridCol w="1027080"/>
                <a:gridCol w="839880"/>
                <a:gridCol w="852480"/>
              </a:tblGrid>
              <a:tr h="218880">
                <a:tc grid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ol Unimed</a:t>
                      </a:r>
                      <a:endParaRPr b="0" lang="en-US" sz="14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cumentação</a:t>
                      </a:r>
                      <a:endParaRPr b="0" lang="en-US" sz="14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591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azo  </a:t>
                      </a:r>
                      <a:endParaRPr b="0" lang="en-US" sz="14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591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760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ódigo TUSS</a:t>
                      </a:r>
                      <a:endParaRPr b="0" lang="en-US" sz="14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5d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escrição TUSS</a:t>
                      </a:r>
                      <a:endParaRPr b="0" lang="en-US" sz="14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5d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Valor do Procedimento a ser pago no Intercâmbio Nacional a partir de 15/05/2016</a:t>
                      </a:r>
                      <a:r>
                        <a:rPr b="1" lang="pt-BR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5d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lassificação</a:t>
                      </a:r>
                      <a:endParaRPr b="0" lang="en-US" sz="14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5911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QTD</a:t>
                      </a:r>
                      <a:endParaRPr b="0" lang="en-US" sz="14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5911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cumentação</a:t>
                      </a:r>
                      <a:endParaRPr b="0" lang="en-US" sz="14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5911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xecutora</a:t>
                      </a:r>
                      <a:endParaRPr b="0" lang="en-US" sz="14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5911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rigem*</a:t>
                      </a:r>
                      <a:endParaRPr b="0" lang="en-US" sz="14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5911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5911"/>
                    </a:solidFill>
                  </a:tcPr>
                </a:tc>
              </a:tr>
              <a:tr h="5533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102011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ter de 24 horas - 2 ou mais canais - analogic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$ 105,54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ixo risc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mediat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Imediat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mediat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</a:tr>
              <a:tr h="5533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301583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lesterol (HDL) - pesquisa e/ou dosagem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$ 7,20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ixo risc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mediat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Imediat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mediat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</a:tr>
              <a:tr h="11008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102038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nitorizacao ambulatorial da pressao arterial - MAPA (24 horas) </a:t>
                      </a: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</a:t>
                      </a:r>
                      <a:r>
                        <a:rPr b="1" i="1" lang="pt-BR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(com diretriz definida pela ANS - nº 56)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$ 105,54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ixo risc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mediat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Imediat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mediat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</a:tr>
              <a:tr h="37080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301192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Ácidos orgânicos (perfil quantitativo)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$ 326,88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cionalizaçã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stificativa Clínica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dia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 dia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dia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</a:tr>
              <a:tr h="37080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310361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tomegalovírus - shell vial - pesquisa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$ 339,84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cionalizaçã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stificativa Clínica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dia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 dia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dia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</a:tr>
              <a:tr h="91836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102050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nometria esofágica computadorizada com teste provocativ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$ 270,70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cionalizaçã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stificativa Clínica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dia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 dia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dia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</a:tr>
              <a:tr h="7358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812049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ngiografia por cateterismo seletivo de ramo primário - por vaso 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$ 262,08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cionalizaçã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stificativa Clínica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dia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 dia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 dia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d35b"/>
                </a:solidFill>
                <a:latin typeface="Trebuchet MS"/>
              </a:rPr>
              <a:t>Multa</a:t>
            </a: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94949"/>
                </a:solidFill>
                <a:latin typeface="Trebuchet MS"/>
              </a:rPr>
              <a:t>A RN estabelece multa de R$ 30 mil para a operadora que não observar as regras dispostas na normativa. E caso a infração venha a se configurar em negativa de cobertura, também será aplicada multa, em valores que vão de R$ 80 mil a R$ 100 mil. </a:t>
            </a: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ítulo 9"/>
          <p:cNvSpPr/>
          <p:nvPr/>
        </p:nvSpPr>
        <p:spPr>
          <a:xfrm>
            <a:off x="0" y="2708280"/>
            <a:ext cx="9144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b1d34b"/>
                </a:solidFill>
                <a:latin typeface="Trebuchet MS"/>
              </a:rPr>
              <a:t>OBRIGADA</a:t>
            </a:r>
            <a:endParaRPr b="0" lang="en-US" sz="4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1d34b"/>
                </a:solidFill>
                <a:latin typeface="Trebuchet MS"/>
              </a:rPr>
              <a:t>Paula Lory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1d34b"/>
                </a:solidFill>
                <a:latin typeface="Trebuchet MS"/>
              </a:rPr>
              <a:t>Unimed do Brasil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6875640" y="5899320"/>
            <a:ext cx="19684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rebuchet MS"/>
              </a:rPr>
              <a:t>Resolução Normativa nº 395 de 14/01/2016</a:t>
            </a:r>
            <a:endParaRPr b="0" lang="en-US" sz="3600" spc="-1" strike="noStrike">
              <a:solidFill>
                <a:srgbClr val="0c0c0c"/>
              </a:solidFill>
              <a:latin typeface="Trebuchet MS"/>
            </a:endParaRPr>
          </a:p>
        </p:txBody>
      </p:sp>
      <p:grpSp>
        <p:nvGrpSpPr>
          <p:cNvPr id="344" name="Grupo 20"/>
          <p:cNvGrpSpPr/>
          <p:nvPr/>
        </p:nvGrpSpPr>
        <p:grpSpPr>
          <a:xfrm>
            <a:off x="1058040" y="4076640"/>
            <a:ext cx="7873200" cy="1464120"/>
            <a:chOff x="1058040" y="4076640"/>
            <a:chExt cx="7873200" cy="1464120"/>
          </a:xfrm>
        </p:grpSpPr>
        <p:sp>
          <p:nvSpPr>
            <p:cNvPr id="345" name="CaixaDeTexto 21"/>
            <p:cNvSpPr/>
            <p:nvPr/>
          </p:nvSpPr>
          <p:spPr>
            <a:xfrm>
              <a:off x="1369800" y="4381200"/>
              <a:ext cx="7561440" cy="1159560"/>
            </a:xfrm>
            <a:prstGeom prst="rect">
              <a:avLst/>
            </a:prstGeom>
            <a:solidFill>
              <a:srgbClr val="fff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494949"/>
                  </a:solidFill>
                  <a:latin typeface="Trebuchet MS"/>
                </a:rPr>
                <a:t>A norma estabelece prazo para que a operadora dê a resposta sobre a solicitação de procedimento ou serviço apresentada pelo consumidor (quando não for possível fornecer resposta imediata); em qualquer hipótese, o atendimento às solicitações de procedimentos ou serviços de cobertura assistencial deve ser concluído dentro dos prazos máximos estabelecidos pela ANS (previstos pela RN nº 259/2011).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46" name="CaixaDeTexto 22"/>
            <p:cNvSpPr/>
            <p:nvPr/>
          </p:nvSpPr>
          <p:spPr>
            <a:xfrm>
              <a:off x="1058040" y="4076640"/>
              <a:ext cx="6313320" cy="337320"/>
            </a:xfrm>
            <a:prstGeom prst="rect">
              <a:avLst/>
            </a:prstGeom>
            <a:solidFill>
              <a:srgbClr val="f47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Trebuchet MS"/>
                </a:rPr>
                <a:t>4 – PRAZO PARA RESPOSTA ÀS SOLICITAÇÕES DE ATENDIMENTO</a:t>
              </a:r>
              <a:endParaRPr b="0" lang="en-US" sz="16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pic>
        <p:nvPicPr>
          <p:cNvPr id="347" name="Picture 2" descr="S:\_ÁREA_INFORMAÇÕES ESTRATÉGICAS\Banco de Imagens\Grafismos\relogio.png"/>
          <p:cNvPicPr/>
          <p:nvPr/>
        </p:nvPicPr>
        <p:blipFill>
          <a:blip r:embed="rId1"/>
          <a:stretch/>
        </p:blipFill>
        <p:spPr>
          <a:xfrm>
            <a:off x="0" y="4076640"/>
            <a:ext cx="1260360" cy="1260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934920" cy="973080"/>
          </a:xfrm>
          <a:prstGeom prst="rect">
            <a:avLst/>
          </a:prstGeom>
          <a:ln w="0">
            <a:noFill/>
          </a:ln>
        </p:spPr>
      </p:pic>
      <p:grpSp>
        <p:nvGrpSpPr>
          <p:cNvPr id="349" name="Grupo 25"/>
          <p:cNvGrpSpPr/>
          <p:nvPr/>
        </p:nvGrpSpPr>
        <p:grpSpPr>
          <a:xfrm>
            <a:off x="1105920" y="2060640"/>
            <a:ext cx="7825320" cy="824760"/>
            <a:chOff x="1105920" y="2060640"/>
            <a:chExt cx="7825320" cy="824760"/>
          </a:xfrm>
        </p:grpSpPr>
        <p:sp>
          <p:nvSpPr>
            <p:cNvPr id="350" name="CaixaDeTexto 26"/>
            <p:cNvSpPr/>
            <p:nvPr/>
          </p:nvSpPr>
          <p:spPr>
            <a:xfrm>
              <a:off x="1369800" y="2365200"/>
              <a:ext cx="7561440" cy="520200"/>
            </a:xfrm>
            <a:prstGeom prst="rect">
              <a:avLst/>
            </a:prstGeom>
            <a:solidFill>
              <a:srgbClr val="fff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494949"/>
                  </a:solidFill>
                  <a:latin typeface="Trebuchet MS"/>
                </a:rPr>
                <a:t>A operadora deve fornecer número de protocolo no início do atendimento ou logo que o atendente identifique tratar-se de demanda que envolva cobertura assistencial.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51" name="CaixaDeTexto 27"/>
            <p:cNvSpPr/>
            <p:nvPr/>
          </p:nvSpPr>
          <p:spPr>
            <a:xfrm>
              <a:off x="1105920" y="2060640"/>
              <a:ext cx="3550320" cy="337320"/>
            </a:xfrm>
            <a:prstGeom prst="rect">
              <a:avLst/>
            </a:pr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Trebuchet MS"/>
                </a:rPr>
                <a:t>3 – PROTOCOLO DE ATENDIMENTO</a:t>
              </a:r>
              <a:endParaRPr b="0" lang="en-US" sz="16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129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rebuchet MS"/>
              </a:rPr>
              <a:t>Resposta da ANS para o Jurídico</a:t>
            </a:r>
            <a:r>
              <a:rPr b="0" lang="pt-BR" sz="4000" spc="-1" strike="noStrike">
                <a:solidFill>
                  <a:srgbClr val="a71680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494949"/>
                </a:solidFill>
                <a:latin typeface="Trebuchet MS"/>
              </a:rPr>
              <a:t>...Assim, os prazos da RN nº 259 devem ser observados pela operadora no </a:t>
            </a:r>
            <a:r>
              <a:rPr b="1" i="1" lang="pt-BR" sz="3200" spc="-1" strike="noStrike" u="sng">
                <a:solidFill>
                  <a:srgbClr val="c00000"/>
                </a:solidFill>
                <a:uFillTx/>
                <a:latin typeface="Trebuchet MS"/>
              </a:rPr>
              <a:t>atendimento</a:t>
            </a:r>
            <a:r>
              <a:rPr b="0" i="1" lang="pt-BR" sz="3200" spc="-1" strike="noStrike">
                <a:solidFill>
                  <a:srgbClr val="494949"/>
                </a:solidFill>
                <a:latin typeface="Trebuchet MS"/>
              </a:rPr>
              <a:t> às solicitações de procedimentos e/ou serviços de cobertura assistencial apresentados pelos beneficiários, </a:t>
            </a:r>
            <a:r>
              <a:rPr b="1" i="1" lang="pt-BR" sz="3200" spc="-1" strike="noStrike" u="sng">
                <a:solidFill>
                  <a:srgbClr val="00b050"/>
                </a:solidFill>
                <a:uFillTx/>
                <a:latin typeface="Trebuchet MS"/>
              </a:rPr>
              <a:t>ainda que seja procedida a reanálise pela Ouvidoria.</a:t>
            </a: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rebuchet MS"/>
              </a:rPr>
              <a:t>Alterações previstas para o Intercâmbio Nacional </a:t>
            </a:r>
            <a:endParaRPr b="0" lang="en-US" sz="36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599840"/>
            <a:ext cx="8229600" cy="4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94949"/>
                </a:solidFill>
                <a:latin typeface="Trebuchet MS"/>
                <a:ea typeface="Trebuchet MS Bold"/>
              </a:rPr>
              <a:t>Manual de Intercâmbio Nacional – Alterações para atender a RN nº 395</a:t>
            </a:r>
            <a:endParaRPr b="0" lang="en-US" sz="1400" spc="-1" strike="noStrike">
              <a:solidFill>
                <a:srgbClr val="0c0c0c"/>
              </a:solidFill>
              <a:latin typeface="Trebuchet MS"/>
            </a:endParaRPr>
          </a:p>
        </p:txBody>
      </p:sp>
      <p:pic>
        <p:nvPicPr>
          <p:cNvPr id="356" name="Picture 2" descr="C:\Users\a07032\AppData\Local\Microsoft\Windows\Temporary Internet Files\Content.Outlook\ZVIQFLKX\intercambio.jpg"/>
          <p:cNvPicPr/>
          <p:nvPr/>
        </p:nvPicPr>
        <p:blipFill>
          <a:blip r:embed="rId1"/>
          <a:stretch/>
        </p:blipFill>
        <p:spPr>
          <a:xfrm>
            <a:off x="5724360" y="2647800"/>
            <a:ext cx="3348360" cy="2251080"/>
          </a:xfrm>
          <a:prstGeom prst="rect">
            <a:avLst/>
          </a:prstGeom>
          <a:ln w="0">
            <a:noFill/>
          </a:ln>
        </p:spPr>
      </p:pic>
      <p:pic>
        <p:nvPicPr>
          <p:cNvPr id="357" name="Grupo 10" descr=""/>
          <p:cNvPicPr/>
          <p:nvPr/>
        </p:nvPicPr>
        <p:blipFill>
          <a:blip r:embed="rId2"/>
          <a:stretch/>
        </p:blipFill>
        <p:spPr>
          <a:xfrm>
            <a:off x="3444840" y="2876400"/>
            <a:ext cx="2254320" cy="2097360"/>
          </a:xfrm>
          <a:prstGeom prst="rect">
            <a:avLst/>
          </a:prstGeom>
          <a:ln w="0">
            <a:noFill/>
          </a:ln>
        </p:spPr>
      </p:pic>
      <p:grpSp>
        <p:nvGrpSpPr>
          <p:cNvPr id="358" name="Grupo 13"/>
          <p:cNvGrpSpPr/>
          <p:nvPr/>
        </p:nvGrpSpPr>
        <p:grpSpPr>
          <a:xfrm>
            <a:off x="1703520" y="3089160"/>
            <a:ext cx="2320920" cy="1959120"/>
            <a:chOff x="1703520" y="3089160"/>
            <a:chExt cx="2320920" cy="1959120"/>
          </a:xfrm>
        </p:grpSpPr>
        <p:sp>
          <p:nvSpPr>
            <p:cNvPr id="359" name="Freeform 14"/>
            <p:cNvSpPr/>
            <p:nvPr/>
          </p:nvSpPr>
          <p:spPr>
            <a:xfrm>
              <a:off x="1703520" y="3089160"/>
              <a:ext cx="2320920" cy="1959120"/>
            </a:xfrm>
            <a:custGeom>
              <a:avLst/>
              <a:gdLst>
                <a:gd name="textAreaLeft" fmla="*/ 0 w 2320920"/>
                <a:gd name="textAreaRight" fmla="*/ 2321280 w 2320920"/>
                <a:gd name="textAreaTop" fmla="*/ 0 h 1959120"/>
                <a:gd name="textAreaBottom" fmla="*/ 1959480 h 1959120"/>
              </a:gdLst>
              <a:ahLst/>
              <a:rect l="textAreaLeft" t="textAreaTop" r="textAreaRight" b="textAreaBottom"/>
              <a:pathLst>
                <a:path w="1440" h="1239">
                  <a:moveTo>
                    <a:pt x="0" y="184"/>
                  </a:moveTo>
                  <a:lnTo>
                    <a:pt x="1079" y="184"/>
                  </a:lnTo>
                  <a:lnTo>
                    <a:pt x="1079" y="0"/>
                  </a:lnTo>
                  <a:lnTo>
                    <a:pt x="1439" y="615"/>
                  </a:lnTo>
                  <a:lnTo>
                    <a:pt x="1079" y="1238"/>
                  </a:lnTo>
                  <a:lnTo>
                    <a:pt x="1079" y="1054"/>
                  </a:lnTo>
                  <a:lnTo>
                    <a:pt x="0" y="1054"/>
                  </a:lnTo>
                  <a:lnTo>
                    <a:pt x="0" y="615"/>
                  </a:lnTo>
                  <a:lnTo>
                    <a:pt x="0" y="184"/>
                  </a:lnTo>
                </a:path>
              </a:pathLst>
            </a:custGeom>
            <a:solidFill>
              <a:srgbClr val="f4792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60" name="Rectangle 17"/>
            <p:cNvSpPr/>
            <p:nvPr/>
          </p:nvSpPr>
          <p:spPr>
            <a:xfrm>
              <a:off x="2267640" y="3612600"/>
              <a:ext cx="1583640" cy="8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785880"/>
                  <a:tab algn="l" pos="1571760"/>
                  <a:tab algn="l" pos="2357280"/>
                  <a:tab algn="l" pos="3143160"/>
                  <a:tab algn="l" pos="3929040"/>
                  <a:tab algn="l" pos="4714920"/>
                  <a:tab algn="l" pos="5500800"/>
                  <a:tab algn="l" pos="6286680"/>
                  <a:tab algn="l" pos="7072200"/>
                  <a:tab algn="l" pos="7858080"/>
                  <a:tab algn="l" pos="8643960"/>
                  <a:tab algn="l" pos="9429840"/>
                  <a:tab algn="l" pos="10215720"/>
                </a:tabLst>
              </a:pPr>
              <a:r>
                <a:rPr b="0" lang="pt-BR" sz="1500" spc="-1" strike="noStrike">
                  <a:solidFill>
                    <a:srgbClr val="ffffff"/>
                  </a:solidFill>
                  <a:latin typeface="Trebuchet MS"/>
                </a:rPr>
                <a:t>Adequação do Rol de procedimentos médicos Unimed</a:t>
              </a:r>
              <a:endParaRPr b="0" lang="en-US" sz="15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361" name="Grupo 16"/>
          <p:cNvGrpSpPr/>
          <p:nvPr/>
        </p:nvGrpSpPr>
        <p:grpSpPr>
          <a:xfrm>
            <a:off x="179280" y="3284640"/>
            <a:ext cx="2048040" cy="1717560"/>
            <a:chOff x="179280" y="3284640"/>
            <a:chExt cx="2048040" cy="1717560"/>
          </a:xfrm>
        </p:grpSpPr>
        <p:sp>
          <p:nvSpPr>
            <p:cNvPr id="362" name="Freeform 15"/>
            <p:cNvSpPr/>
            <p:nvPr/>
          </p:nvSpPr>
          <p:spPr>
            <a:xfrm>
              <a:off x="179280" y="3284640"/>
              <a:ext cx="2048040" cy="1717560"/>
            </a:xfrm>
            <a:custGeom>
              <a:avLst/>
              <a:gdLst>
                <a:gd name="textAreaLeft" fmla="*/ 0 w 2048040"/>
                <a:gd name="textAreaRight" fmla="*/ 2048400 w 2048040"/>
                <a:gd name="textAreaTop" fmla="*/ 0 h 1717560"/>
                <a:gd name="textAreaBottom" fmla="*/ 1717920 h 1717560"/>
              </a:gdLst>
              <a:ahLst/>
              <a:rect l="textAreaLeft" t="textAreaTop" r="textAreaRight" b="textAreaBottom"/>
              <a:pathLst>
                <a:path w="1080" h="1079">
                  <a:moveTo>
                    <a:pt x="0" y="215"/>
                  </a:moveTo>
                  <a:lnTo>
                    <a:pt x="768" y="215"/>
                  </a:lnTo>
                  <a:lnTo>
                    <a:pt x="768" y="0"/>
                  </a:lnTo>
                  <a:lnTo>
                    <a:pt x="1079" y="543"/>
                  </a:lnTo>
                  <a:lnTo>
                    <a:pt x="768" y="1078"/>
                  </a:lnTo>
                  <a:lnTo>
                    <a:pt x="768" y="862"/>
                  </a:lnTo>
                  <a:lnTo>
                    <a:pt x="0" y="862"/>
                  </a:lnTo>
                  <a:lnTo>
                    <a:pt x="0" y="543"/>
                  </a:lnTo>
                  <a:lnTo>
                    <a:pt x="0" y="215"/>
                  </a:lnTo>
                </a:path>
              </a:pathLst>
            </a:custGeom>
            <a:solidFill>
              <a:srgbClr val="ed165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63" name="Rectangle 16"/>
            <p:cNvSpPr/>
            <p:nvPr/>
          </p:nvSpPr>
          <p:spPr>
            <a:xfrm>
              <a:off x="383400" y="3711960"/>
              <a:ext cx="1542240" cy="8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785880"/>
                  <a:tab algn="l" pos="1571760"/>
                  <a:tab algn="l" pos="2357280"/>
                  <a:tab algn="l" pos="3143160"/>
                  <a:tab algn="l" pos="3929040"/>
                  <a:tab algn="l" pos="4714920"/>
                  <a:tab algn="l" pos="5500800"/>
                  <a:tab algn="l" pos="6286680"/>
                  <a:tab algn="l" pos="7072200"/>
                  <a:tab algn="l" pos="7858080"/>
                  <a:tab algn="l" pos="8643960"/>
                  <a:tab algn="l" pos="9429840"/>
                  <a:tab algn="l" pos="10215720"/>
                </a:tabLst>
              </a:pPr>
              <a:r>
                <a:rPr b="0" lang="pt-BR" sz="1500" spc="-1" strike="noStrike">
                  <a:solidFill>
                    <a:srgbClr val="ffffff"/>
                  </a:solidFill>
                  <a:latin typeface="Trebuchet MS"/>
                </a:rPr>
                <a:t>Prazos da Unimed Executora e da Unimed Origem</a:t>
              </a:r>
              <a:endParaRPr b="0" lang="en-US" sz="15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364" name="CaixaDeTexto 13"/>
          <p:cNvSpPr/>
          <p:nvPr/>
        </p:nvSpPr>
        <p:spPr>
          <a:xfrm>
            <a:off x="183600" y="5877000"/>
            <a:ext cx="91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c0c0c"/>
                </a:solidFill>
                <a:latin typeface="Trebuchet MS"/>
              </a:rPr>
              <a:t>Aprovada as alterações na reunião do dia 27/04/2016 pelo Conselho Confederativo;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c0c0c"/>
                </a:solidFill>
                <a:latin typeface="Trebuchet MS"/>
              </a:rPr>
              <a:t>Publicação da nova versão prevista para 06/05/2016 e vigência 15/05/2016.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494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  <a:p>
            <a:pPr marL="308520" indent="-308520" algn="just">
              <a:spcBef>
                <a:spcPts val="601"/>
              </a:spcBef>
              <a:buClr>
                <a:srgbClr val="494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94949"/>
                </a:solidFill>
                <a:latin typeface="Trebuchet MS"/>
              </a:rPr>
              <a:t>Importante não confundirmos prazos com envio de documentação; sendo o envio obrigatório no ato da solicitação, de acordo com a tabela de racionalização. </a:t>
            </a:r>
            <a:endParaRPr b="0" lang="en-US" sz="2400" spc="-1" strike="noStrike">
              <a:solidFill>
                <a:srgbClr val="0c0c0c"/>
              </a:solidFill>
              <a:latin typeface="Trebuchet MS"/>
            </a:endParaRPr>
          </a:p>
          <a:p>
            <a:pPr marL="308520" indent="-308520" algn="just">
              <a:spcBef>
                <a:spcPts val="601"/>
              </a:spcBef>
              <a:buClr>
                <a:srgbClr val="494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Trebuchet MS"/>
            </a:endParaRPr>
          </a:p>
          <a:p>
            <a:pPr marL="308520" indent="-308520" algn="just">
              <a:spcBef>
                <a:spcPts val="601"/>
              </a:spcBef>
              <a:buClr>
                <a:srgbClr val="494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94949"/>
                </a:solidFill>
                <a:latin typeface="Trebuchet MS"/>
              </a:rPr>
              <a:t>O prazo imediato será para os procedimentos que constam sinalizados no Rol como baixo risco e para atendimentos sinalizados como urgência/emergência;</a:t>
            </a:r>
            <a:endParaRPr b="0" lang="en-US" sz="2400" spc="-1" strike="noStrike">
              <a:solidFill>
                <a:srgbClr val="0c0c0c"/>
              </a:solidFill>
              <a:latin typeface="Trebuchet MS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Trebuchet MS"/>
            </a:endParaRPr>
          </a:p>
          <a:p>
            <a:pPr marL="308520" indent="-308520" algn="just">
              <a:spcBef>
                <a:spcPts val="601"/>
              </a:spcBef>
              <a:buClr>
                <a:srgbClr val="494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94949"/>
                </a:solidFill>
                <a:latin typeface="Trebuchet MS"/>
              </a:rPr>
              <a:t>Os procedimentos alocados no Baixo Risco deverão ser  respondidos imediatamente como autorizados ou negados.</a:t>
            </a:r>
            <a:endParaRPr b="0" lang="en-US" sz="2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10920" y="544680"/>
            <a:ext cx="5761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rebuchet MS"/>
              </a:rPr>
              <a:t>RN 395/2016</a:t>
            </a:r>
            <a:endParaRPr b="0" lang="en-US" sz="40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2637000"/>
            <a:ext cx="822960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4400" spc="-1" strike="noStrike">
                <a:solidFill>
                  <a:srgbClr val="fff2ce"/>
                </a:solidFill>
                <a:latin typeface="Trebuchet MS"/>
              </a:rPr>
              <a:t>Decisões da Comissão de Adequação do Rol Unimed</a:t>
            </a: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79640" y="333000"/>
            <a:ext cx="6192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35e53"/>
                </a:solidFill>
                <a:latin typeface="Trebuchet MS"/>
              </a:rPr>
              <a:t>    </a:t>
            </a:r>
            <a:r>
              <a:rPr b="0" lang="pt-BR" sz="2000" spc="-1" strike="noStrike">
                <a:solidFill>
                  <a:srgbClr val="035e53"/>
                </a:solidFill>
                <a:latin typeface="Trebuchet MS"/>
              </a:rPr>
              <a:t>RN 395- Conforme Comitê de Intercâmbio Nacional, Comitê  Consultivo e Comissão de Adequação do Rol Unimed</a:t>
            </a:r>
            <a:endParaRPr b="0" lang="en-US" sz="20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94949"/>
                </a:solidFill>
                <a:latin typeface="Trebuchet MS"/>
              </a:rPr>
              <a:t>Tabelas conforme a RN 395 e de acordo com decisões :</a:t>
            </a: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  <a:p>
            <a:pPr>
              <a:spcBef>
                <a:spcPts val="799"/>
              </a:spcBef>
              <a:buClr>
                <a:srgbClr val="494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94949"/>
                </a:solidFill>
                <a:latin typeface="Trebuchet MS"/>
              </a:rPr>
              <a:t> </a:t>
            </a:r>
            <a:r>
              <a:rPr b="0" lang="pt-BR" sz="3200" spc="-1" strike="noStrike">
                <a:solidFill>
                  <a:srgbClr val="494949"/>
                </a:solidFill>
                <a:latin typeface="Trebuchet MS"/>
              </a:rPr>
              <a:t>Comitê de Intercâmbio Nacional, </a:t>
            </a: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  <a:p>
            <a:pPr>
              <a:spcBef>
                <a:spcPts val="799"/>
              </a:spcBef>
              <a:buClr>
                <a:srgbClr val="494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94949"/>
                </a:solidFill>
                <a:latin typeface="Trebuchet MS"/>
              </a:rPr>
              <a:t> </a:t>
            </a:r>
            <a:r>
              <a:rPr b="0" lang="pt-BR" sz="3200" spc="-1" strike="noStrike">
                <a:solidFill>
                  <a:srgbClr val="494949"/>
                </a:solidFill>
                <a:latin typeface="Trebuchet MS"/>
              </a:rPr>
              <a:t>Comitê  Consultivo</a:t>
            </a: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  <a:p>
            <a:pPr>
              <a:spcBef>
                <a:spcPts val="799"/>
              </a:spcBef>
              <a:buClr>
                <a:srgbClr val="494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94949"/>
                </a:solidFill>
                <a:latin typeface="Trebuchet MS"/>
              </a:rPr>
              <a:t>Comissão de Adequação do Rol Unimed</a:t>
            </a: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0" y="0"/>
          <a:ext cx="9144000" cy="6894360"/>
        </p:xfrm>
        <a:graphic>
          <a:graphicData uri="http://schemas.openxmlformats.org/drawingml/2006/table">
            <a:tbl>
              <a:tblPr/>
              <a:tblGrid>
                <a:gridCol w="1954080"/>
                <a:gridCol w="1179720"/>
                <a:gridCol w="1393920"/>
                <a:gridCol w="1174680"/>
                <a:gridCol w="1181160"/>
                <a:gridCol w="857160"/>
                <a:gridCol w="1403280"/>
              </a:tblGrid>
              <a:tr h="738000"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scrição </a:t>
                      </a:r>
                      <a:endParaRPr b="0" lang="en-US" sz="16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azo ANS para realização / RN 259</a:t>
                      </a:r>
                      <a:endParaRPr b="0" lang="en-US" sz="16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azo ANS para resposta à solicitação / RN 395</a:t>
                      </a:r>
                      <a:endParaRPr b="0" lang="en-US" sz="16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posta para o MIN para atender a Resolução</a:t>
                      </a:r>
                      <a:endParaRPr b="0" lang="en-US" sz="16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 do Prazo</a:t>
                      </a:r>
                      <a:endParaRPr b="0" lang="en-US" sz="16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unta Médica</a:t>
                      </a:r>
                      <a:endParaRPr b="0" lang="en-US" sz="16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122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nimed Executora</a:t>
                      </a:r>
                      <a:endParaRPr b="0" lang="en-US" sz="16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e0b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nimed Origem</a:t>
                      </a:r>
                      <a:endParaRPr b="0" lang="en-US" sz="16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e0b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rgência e emergência 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mediat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mediat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mediat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mediat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mediato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rowSpan="6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verá ser solicitada dentro do prazo  de resposta estabelecido pela RN 395,  com prazo máximo de conclusão de 21 dias úteis a contar da data de entrada do processo na Unimed, conforme RN 259. </a:t>
                      </a:r>
                      <a:endParaRPr b="0" lang="en-US" sz="14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8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rviços de diagnóstico por laboratório de análises clínicas em regime ambulatorial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té 3 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té 3 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ixo Risco ou 1 dia útil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ixo Risco ou </a:t>
                      </a: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02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mediato ou </a:t>
                      </a: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03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mais serviços de diagnóstico e terapia em regime ambulatorial 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1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té 10 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1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té 5 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1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ixo risco ou 02 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1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ixo risco ou 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03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1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mediato ou </a:t>
                      </a: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05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1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2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tendimento em regime de hospital-dia 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1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té 10 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1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té 5 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1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2 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1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03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1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05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1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50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cedimentos de Alta Complexidade - PAC  (medicamentos quimioterápicos  e com diretrizes de utilização)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té 21 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té 10 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4 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06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tendimento em regime de internação eletiva 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té 21 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té 10 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4 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06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as úteis</a:t>
                      </a:r>
                      <a:endParaRPr b="0" lang="en-US" sz="12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c0c0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9236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rebuchet MS"/>
              </a:rPr>
              <a:t>Análises Clínicas -Aba Cobertos</a:t>
            </a:r>
            <a:r>
              <a:rPr b="0" lang="pt-BR" sz="4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c0c0c"/>
              </a:solidFill>
              <a:latin typeface="Trebuchet M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949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601"/>
              </a:spcBef>
              <a:buClr>
                <a:srgbClr val="4949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94949"/>
                </a:solidFill>
                <a:latin typeface="Trebuchet MS"/>
              </a:rPr>
              <a:t>Os procedimentos de Analises Clínicas da aba cobertos foram alocados preferencialmente na tabela de Baixo Risco.</a:t>
            </a:r>
            <a:endParaRPr b="0" lang="en-US" sz="24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Trebuchet MS"/>
            </a:endParaRPr>
          </a:p>
          <a:p>
            <a:pPr marL="343080" indent="-343080" algn="just">
              <a:spcBef>
                <a:spcPts val="601"/>
              </a:spcBef>
              <a:buClr>
                <a:srgbClr val="4949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94949"/>
                </a:solidFill>
                <a:latin typeface="Trebuchet MS"/>
              </a:rPr>
              <a:t> </a:t>
            </a:r>
            <a:r>
              <a:rPr b="0" lang="pt-BR" sz="2400" spc="-1" strike="noStrike">
                <a:solidFill>
                  <a:srgbClr val="494949"/>
                </a:solidFill>
                <a:latin typeface="Trebuchet MS"/>
              </a:rPr>
              <a:t>Os procedimentos de Análises Clínicas que constam da </a:t>
            </a:r>
            <a:r>
              <a:rPr b="0" i="1" lang="pt-BR" sz="2400" spc="-1" strike="noStrike" u="sng">
                <a:solidFill>
                  <a:srgbClr val="494949"/>
                </a:solidFill>
                <a:uFillTx/>
                <a:latin typeface="Trebuchet MS"/>
              </a:rPr>
              <a:t>aba Cobertos </a:t>
            </a:r>
            <a:r>
              <a:rPr b="0" lang="pt-BR" sz="2400" spc="-1" strike="noStrike">
                <a:solidFill>
                  <a:srgbClr val="494949"/>
                </a:solidFill>
                <a:latin typeface="Trebuchet MS"/>
              </a:rPr>
              <a:t>que não foram alocados no Baixo Risco, foram alocados no Rol com prazo de 2 dias para resposta da Unimed Origem. </a:t>
            </a:r>
            <a:endParaRPr b="0" lang="en-US" sz="2400" spc="-1" strike="noStrike">
              <a:solidFill>
                <a:srgbClr val="0c0c0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13:05:51Z</dcterms:created>
  <dc:creator>Julia Fernandes Di Fraia</dc:creator>
  <dc:description/>
  <dc:language>en-US</dc:language>
  <cp:lastModifiedBy>a07291</cp:lastModifiedBy>
  <dcterms:modified xsi:type="dcterms:W3CDTF">2016-05-04T14:51:08Z</dcterms:modified>
  <cp:revision>65</cp:revision>
  <dc:subject/>
  <dc:title>Slide 1</dc:title>
</cp:coreProperties>
</file>